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76EF-ACF6-44E8-BC55-210DDCE23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C6A8-B043-444B-ACA9-4E2525C22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151F-FFA8-481C-8F5B-95BD8CA96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17D5-5AEC-4EDB-8C59-618C9D218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8556-ED6C-440D-A3DA-96976ACF4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0E7B-C2E0-40B8-B7B6-BA2725192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EA54-A6AF-404A-8F04-DECC6F419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CCE6-A5C8-40B3-B4B8-369CC0A94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5297-E6AB-4E8E-BB59-465363B20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E1B2-7B67-4AFF-AF38-7B551554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09AF-0731-4348-B57C-896F3C240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007E-B92C-4EA0-A125-081E9569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24880-70C8-41E1-8196-76E376BEEE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outhernbaychurch.com/images/feather%20Pen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geocities.com/lostcause777/PoetryPen2.gif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e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a Francis, Gail Barlow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a Sock and Rose Le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143160" y="25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43160" y="25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914400"/>
            <a:ext cx="2201760" cy="2201760"/>
          </a:xfrm>
          <a:prstGeom prst="rect">
            <a:avLst/>
          </a:prstGeom>
          <a:ln w="0">
            <a:noFill/>
          </a:ln>
        </p:spPr>
      </p:pic>
      <p:pic>
        <p:nvPicPr>
          <p:cNvPr id="46" name="images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15200" y="510552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icture Poe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95280" y="1447920"/>
            <a:ext cx="6324840" cy="50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AK T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NDS HOW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ORNS CLA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THE DRY G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images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1238400" cy="1363680"/>
          </a:xfrm>
          <a:prstGeom prst="rect">
            <a:avLst/>
          </a:prstGeom>
          <a:ln w="0">
            <a:noFill/>
          </a:ln>
        </p:spPr>
      </p:pic>
      <p:pic>
        <p:nvPicPr>
          <p:cNvPr id="72" name="Acorn" descr=""/>
          <p:cNvPicPr/>
          <p:nvPr/>
        </p:nvPicPr>
        <p:blipFill>
          <a:blip r:embed="rId2"/>
          <a:stretch/>
        </p:blipFill>
        <p:spPr>
          <a:xfrm flipH="1" rot="10800000">
            <a:off x="6629400" y="5105520"/>
            <a:ext cx="167652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k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of the easiest types of poetry to lea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n’t rhyme and has no 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poem is made up of three lines only with seventeen syll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66680" y="4419720"/>
            <a:ext cx="74678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t/ter/day/I/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/fast/and/grabbed/my/back/pack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/hur/ry/to/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Haiku,_Ben" descr=""/>
          <p:cNvPicPr/>
          <p:nvPr/>
        </p:nvPicPr>
        <p:blipFill>
          <a:blip r:embed="rId1"/>
          <a:stretch/>
        </p:blipFill>
        <p:spPr>
          <a:xfrm>
            <a:off x="6629400" y="4924440"/>
            <a:ext cx="152388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e Poe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known as catalog or list poe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not have to have rhyme or rhy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nly rules for life poetry is that you have to be hon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of the best life poets of cultural significance is a Mi’kmaq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ta Jo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0920304850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2424240" cy="3276720"/>
          </a:xfrm>
          <a:prstGeom prst="rect">
            <a:avLst/>
          </a:prstGeom>
          <a:ln w="0">
            <a:noFill/>
          </a:ln>
        </p:spPr>
      </p:pic>
      <p:pic>
        <p:nvPicPr>
          <p:cNvPr id="81" name="026" descr=""/>
          <p:cNvPicPr/>
          <p:nvPr/>
        </p:nvPicPr>
        <p:blipFill>
          <a:blip r:embed="rId2"/>
          <a:stretch/>
        </p:blipFill>
        <p:spPr>
          <a:xfrm>
            <a:off x="5638680" y="2057400"/>
            <a:ext cx="2552760" cy="29718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04920" y="20574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ta Joe Book of Po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477120" y="56386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ta J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bute to Jef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once was a man from Miramich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o taught us about 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 thought cursive writing was pass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his students had something to s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pite his ravings, he grudgingly agr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28600" y="152352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ww.sacred-texts.com/cla/ari/poe/poe05.h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hsc.csu.edu.au/english/extension2/additionl_resources/ext2resourced/dw_ext2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home.cogeco.ca/~rayser3/index.h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ww.edhelllper.com/readingComprehensions_31-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ww.readwrite.org/material/acro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ww.acrostic1.ht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ww.readwrite.or/material/limeri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ww.nativepeopl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www.poets.or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w.Gigglepoetry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oting poetry within the classro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ing technology while delivering poetry with the curricul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ing a general understanding of what poetry is and what it is used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ing a list of on-line resources for educators to use while teaching poe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Poetr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etry sprung from our basic instinc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r instinct for imi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r instinct for harmony and rhy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urpose of Poe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520" y="3200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ncil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ing of Mea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p Five Reason Why Students Should Study Poe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etry supports the development of the building blocks of  liter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etry addresses the needs to raise standards for wri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etry teaches and reinforces grammar and vocabul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etry provides a focus on reading, writing and cla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etry is an acceptable way for students to express emotions and feel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rious Forms of Poe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382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ros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eri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ing List Poe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cture Poe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ik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fe Poe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67652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various forms of Poetry.  We will be giving a brief overview of six typ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st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rostic poems spells a word vertical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describes the word that is being spell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oem must relate to the word being spell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c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ckey is my favorite spo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t co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nt the peri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ck 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y, play the puck, bo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ck!  The puck just hit me in the 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y Just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images" descr=""/>
          <p:cNvPicPr/>
          <p:nvPr/>
        </p:nvPicPr>
        <p:blipFill>
          <a:blip r:embed="rId1"/>
          <a:stretch/>
        </p:blipFill>
        <p:spPr>
          <a:xfrm>
            <a:off x="7086600" y="5318280"/>
            <a:ext cx="99072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meri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limerick poem has five l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es 1, 2, and 5 are known as triplet l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es 3 and 4 are known as couplet l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3809880"/>
            <a:ext cx="75438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re was a young lady named R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o had a large wart on her n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n she had it remo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r appearance improve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 her glasses slipped down to her to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7621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riting List Poe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only need a top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a list about that top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images" descr=""/>
          <p:cNvPicPr/>
          <p:nvPr/>
        </p:nvPicPr>
        <p:blipFill>
          <a:blip r:embed="rId1"/>
          <a:stretch/>
        </p:blipFill>
        <p:spPr>
          <a:xfrm>
            <a:off x="1676520" y="4952880"/>
            <a:ext cx="915840" cy="12114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69960" y="4460760"/>
            <a:ext cx="4435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248520" y="0"/>
            <a:ext cx="2209680" cy="74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ree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r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ra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gen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v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oy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nfl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l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mera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3T14:28:15Z</dcterms:created>
  <dc:creator>Rose</dc:creator>
  <dc:description/>
  <dc:language>en-US</dc:language>
  <cp:lastModifiedBy>labpc</cp:lastModifiedBy>
  <dcterms:modified xsi:type="dcterms:W3CDTF">2007-02-27T20:19:53Z</dcterms:modified>
  <cp:revision>22</cp:revision>
  <dc:subject/>
  <dc:title>Poetry</dc:title>
</cp:coreProperties>
</file>